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FA4-B762-4F5E-A71C-3242695C2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30C-73D2-49BF-AEA2-B72BAB391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E988-13C9-4EAC-9265-AA7902B8C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0469-079E-4DDB-91A2-4D3921FE6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CEB9-12E2-412E-BF72-BC9233E54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Alleles, alternative versions of a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96B-411F-4FE4-A67E-5D10CE4C0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0F94-3016-42E2-9A2C-24D4FCED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A8A0-C9DD-4C03-98EE-203EC0EA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F4ED-57EC-45FB-AECF-D155BFCE9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E032-DD62-4F55-926F-DE32B507D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F5D5-D8EF-4A0B-898F-59F071F1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97A-3097-40DD-B537-E9D34160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4DD1-907F-4DD2-8936-629A7E21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065F-1BB4-4D6F-B397-09DCBF2B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05D-000D-4051-9283-F883ACF7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1352-A67E-43C8-B4B7-3E1F631B3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Phenotype versus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2DB6-6613-44C9-9AE3-81741CE94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6D85-1C3E-4FC0-9D93-89AAA1A9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he test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84B8-0B1D-4D00-9EB4-C79BD1DD0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EBC5-EC86-4F01-98B1-4319A4A69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8E09-AB0F-41C9-AFF2-E2BC711E0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Do the alleles for one character assort into gametes dependently or independently of the alleles for a different charac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9BD4-1A4B-4466-A44E-6FFAF391D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3FAB-84AE-466A-8B2E-B993AA371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9BEC-0A0A-4C47-AC9C-B36F1168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What principles of inheritance did Gregor Mendel discover by breeding garden pea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6345-50BD-499A-A156-B6A914F6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8B8-9C77-4AAF-9873-63841E1A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14.2 Crossing pea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9856-BD3B-455C-8F8B-203756E92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1C0-5CED-4FE5-B839-3A11E1024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Whe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ybrid pea plants are allowed to self-pollinate, which traits appear in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ene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29AC-ED36-4A47-A9FC-EB8A0819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2CEF-C273-49BC-86CE-3AD7A8A3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06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0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0492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906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760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492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06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760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28240" y="579132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351000" indent="-3510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351000" indent="-3510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Rectangle 3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6OPJnO9W_rQ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1" lang="en-US" sz="5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63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93366"/>
                </a:solidFill>
                <a:latin typeface="Times New Roman"/>
              </a:rPr>
              <a:t>Mendel and the Gene Idea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05920" y="1174680"/>
            <a:ext cx="85345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eveloped a hypothesis to explain the 3:1 inheritance pattern he observed in 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fsp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related concepts make up this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concepts can be related to what we now know about genes and chromos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16000" y="1220760"/>
            <a:ext cx="8534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first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at alternative versions of genes account for variations in inherited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gene for flower color in pea plants exists in two versions, one for purple flowers and the other for white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alternative versions of a ge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called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ene resides at a specific locus on a specific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7" descr="14_04Alleles-U"/>
          <p:cNvPicPr/>
          <p:nvPr/>
        </p:nvPicPr>
        <p:blipFill>
          <a:blip r:embed="rId1"/>
          <a:stretch/>
        </p:blipFill>
        <p:spPr>
          <a:xfrm>
            <a:off x="297000" y="1638360"/>
            <a:ext cx="854856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4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4040280" y="1706400"/>
            <a:ext cx="3090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ele for purple flower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5567400" y="201456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973920" y="2925720"/>
            <a:ext cx="1839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omologou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6673680" y="2146320"/>
            <a:ext cx="152640" cy="2469960"/>
          </a:xfrm>
          <a:custGeom>
            <a:avLst/>
            <a:gdLst>
              <a:gd name="textAreaLeft" fmla="*/ 0 w 152640"/>
              <a:gd name="textAreaRight" fmla="*/ 55080 w 152640"/>
              <a:gd name="textAreaTop" fmla="*/ 64080 h 2469960"/>
              <a:gd name="textAreaBottom" fmla="*/ 2405880 h 24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046240" y="3262320"/>
            <a:ext cx="3554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cus for flower-color gene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5010120" y="2869920"/>
            <a:ext cx="52704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5003640" y="3562200"/>
            <a:ext cx="527040" cy="29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4141800" y="4888080"/>
            <a:ext cx="3090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ele for white flower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62720" y="4451400"/>
            <a:ext cx="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6000" y="1230480"/>
            <a:ext cx="853416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second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at for each character 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rganism inherits two alleles, one from each pa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made this deduction without knowing about the role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alleles at a locus on a chromosome may be identical, as in the true-breeding plants of Mendel’s P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the two alleles at a locus may differ, as in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41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third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at if the two alleles at a locus differ, then one (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minant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determines the organism’s appearance, and the other (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ssive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has no noticeable effect on appea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flower-color example,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s had purple flowers because the allele for that trait is domin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5640" y="1226880"/>
            <a:ext cx="86230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fourth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now known as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aw of segregation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ates that the two alleles for a heritable character separate (segregate) during gamete formation and end up in different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us, an egg or a sperm gets only one of the two alleles that are present in the somatic cells of an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segregation of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leles corresponds to the distribution of homologous chromosomes to different gametes in 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05920" y="1207800"/>
            <a:ext cx="853452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’s segregation model accounts for the 3:1 ratio he observed 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ration of his numerous cro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sible combinations of sperm and egg can be shown using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nnett squ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diagram for predicting the results of a genetic cross between individuals of known genetic make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apital letter represents a dominant allele, and a lowercase letter represents a recessive all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2" descr="14_05LawOfSegregation_1-U"/>
          <p:cNvPicPr/>
          <p:nvPr/>
        </p:nvPicPr>
        <p:blipFill>
          <a:blip r:embed="rId1"/>
          <a:stretch/>
        </p:blipFill>
        <p:spPr>
          <a:xfrm>
            <a:off x="2706840" y="171360"/>
            <a:ext cx="3730320" cy="6591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3"/>
          <p:cNvSpPr/>
          <p:nvPr/>
        </p:nvSpPr>
        <p:spPr>
          <a:xfrm>
            <a:off x="2736720" y="291960"/>
            <a:ext cx="1251000" cy="29844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Rectangle 44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5-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2846520" y="372960"/>
            <a:ext cx="10396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2801880" y="988920"/>
            <a:ext cx="10400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Text Box 47"/>
          <p:cNvSpPr/>
          <p:nvPr/>
        </p:nvSpPr>
        <p:spPr>
          <a:xfrm>
            <a:off x="2801880" y="1173240"/>
            <a:ext cx="1344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2801880" y="153504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4103640" y="98280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5329080" y="98892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4668840" y="117324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Text Box 52"/>
          <p:cNvSpPr/>
          <p:nvPr/>
        </p:nvSpPr>
        <p:spPr>
          <a:xfrm>
            <a:off x="4630680" y="154764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5862600" y="117936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Text Box 54"/>
          <p:cNvSpPr/>
          <p:nvPr/>
        </p:nvSpPr>
        <p:spPr>
          <a:xfrm>
            <a:off x="5761080" y="152244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5" descr="14_05LawOfSegregation_2-U"/>
          <p:cNvPicPr/>
          <p:nvPr/>
        </p:nvPicPr>
        <p:blipFill>
          <a:blip r:embed="rId1"/>
          <a:stretch/>
        </p:blipFill>
        <p:spPr>
          <a:xfrm>
            <a:off x="2706840" y="171360"/>
            <a:ext cx="3730320" cy="6591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6"/>
          <p:cNvSpPr/>
          <p:nvPr/>
        </p:nvSpPr>
        <p:spPr>
          <a:xfrm>
            <a:off x="2735280" y="2476440"/>
            <a:ext cx="1239840" cy="30492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2736720" y="291960"/>
            <a:ext cx="1251000" cy="29844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5-2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846520" y="372960"/>
            <a:ext cx="10396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2801880" y="988920"/>
            <a:ext cx="10400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2801880" y="1173240"/>
            <a:ext cx="1344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2801880" y="153504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4103640" y="98280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5329080" y="98892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668840" y="117324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4630680" y="154764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5862600" y="117936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5761080" y="152244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2828880" y="2532240"/>
            <a:ext cx="1073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2800440" y="364320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2809800" y="3279600"/>
            <a:ext cx="1344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2809800" y="3097080"/>
            <a:ext cx="10400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4591080" y="311616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5065560" y="331488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4621320" y="3665520"/>
            <a:ext cx="118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5753160" y="3632040"/>
            <a:ext cx="1000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4311720" y="365292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5425920" y="364500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6" descr="14_05LawOfSegregation_3-U"/>
          <p:cNvPicPr/>
          <p:nvPr/>
        </p:nvPicPr>
        <p:blipFill>
          <a:blip r:embed="rId1"/>
          <a:stretch/>
        </p:blipFill>
        <p:spPr>
          <a:xfrm>
            <a:off x="2706840" y="171360"/>
            <a:ext cx="3730320" cy="65912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7"/>
          <p:cNvSpPr/>
          <p:nvPr/>
        </p:nvSpPr>
        <p:spPr>
          <a:xfrm>
            <a:off x="2730600" y="4305240"/>
            <a:ext cx="1257120" cy="30492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2735280" y="2476440"/>
            <a:ext cx="1239840" cy="30492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2736720" y="291960"/>
            <a:ext cx="1251000" cy="29844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5-3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2846520" y="372960"/>
            <a:ext cx="10396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Text Box 32"/>
          <p:cNvSpPr/>
          <p:nvPr/>
        </p:nvSpPr>
        <p:spPr>
          <a:xfrm>
            <a:off x="2801880" y="988920"/>
            <a:ext cx="10400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Text Box 33"/>
          <p:cNvSpPr/>
          <p:nvPr/>
        </p:nvSpPr>
        <p:spPr>
          <a:xfrm>
            <a:off x="2801880" y="1173240"/>
            <a:ext cx="1344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2801880" y="153504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Text Box 35"/>
          <p:cNvSpPr/>
          <p:nvPr/>
        </p:nvSpPr>
        <p:spPr>
          <a:xfrm>
            <a:off x="4103640" y="98280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5329080" y="98892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4668840" y="117324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4630680" y="154764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5862600" y="117936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5761080" y="152244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2828880" y="2532240"/>
            <a:ext cx="1073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2800440" y="364320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Text Box 43"/>
          <p:cNvSpPr/>
          <p:nvPr/>
        </p:nvSpPr>
        <p:spPr>
          <a:xfrm>
            <a:off x="2809800" y="3279600"/>
            <a:ext cx="1344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Text Box 44"/>
          <p:cNvSpPr/>
          <p:nvPr/>
        </p:nvSpPr>
        <p:spPr>
          <a:xfrm>
            <a:off x="2809800" y="3097080"/>
            <a:ext cx="10400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4591080" y="311616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Text Box 46"/>
          <p:cNvSpPr/>
          <p:nvPr/>
        </p:nvSpPr>
        <p:spPr>
          <a:xfrm>
            <a:off x="5065560" y="331488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Text Box 47"/>
          <p:cNvSpPr/>
          <p:nvPr/>
        </p:nvSpPr>
        <p:spPr>
          <a:xfrm>
            <a:off x="4627440" y="366552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Text Box 48"/>
          <p:cNvSpPr/>
          <p:nvPr/>
        </p:nvSpPr>
        <p:spPr>
          <a:xfrm>
            <a:off x="5753160" y="3632040"/>
            <a:ext cx="1000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Text Box 49"/>
          <p:cNvSpPr/>
          <p:nvPr/>
        </p:nvSpPr>
        <p:spPr>
          <a:xfrm>
            <a:off x="4311720" y="365292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Text Box 50"/>
          <p:cNvSpPr/>
          <p:nvPr/>
        </p:nvSpPr>
        <p:spPr>
          <a:xfrm>
            <a:off x="5425920" y="364500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Text Box 51"/>
          <p:cNvSpPr/>
          <p:nvPr/>
        </p:nvSpPr>
        <p:spPr>
          <a:xfrm>
            <a:off x="2797200" y="4361040"/>
            <a:ext cx="1073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Text Box 52"/>
          <p:cNvSpPr/>
          <p:nvPr/>
        </p:nvSpPr>
        <p:spPr>
          <a:xfrm>
            <a:off x="4991040" y="4125960"/>
            <a:ext cx="538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Text Box 53"/>
          <p:cNvSpPr/>
          <p:nvPr/>
        </p:nvSpPr>
        <p:spPr>
          <a:xfrm>
            <a:off x="3930480" y="5275440"/>
            <a:ext cx="41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Text Box 54"/>
          <p:cNvSpPr/>
          <p:nvPr/>
        </p:nvSpPr>
        <p:spPr>
          <a:xfrm>
            <a:off x="4843440" y="441468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Text Box 55"/>
          <p:cNvSpPr/>
          <p:nvPr/>
        </p:nvSpPr>
        <p:spPr>
          <a:xfrm>
            <a:off x="4303800" y="4960800"/>
            <a:ext cx="118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Text Box 56"/>
          <p:cNvSpPr/>
          <p:nvPr/>
        </p:nvSpPr>
        <p:spPr>
          <a:xfrm>
            <a:off x="4782960" y="5154480"/>
            <a:ext cx="2080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Text Box 57"/>
          <p:cNvSpPr/>
          <p:nvPr/>
        </p:nvSpPr>
        <p:spPr>
          <a:xfrm>
            <a:off x="5468760" y="5154480"/>
            <a:ext cx="2080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Text Box 58"/>
          <p:cNvSpPr/>
          <p:nvPr/>
        </p:nvSpPr>
        <p:spPr>
          <a:xfrm>
            <a:off x="5492880" y="4387680"/>
            <a:ext cx="9972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Text Box 59"/>
          <p:cNvSpPr/>
          <p:nvPr/>
        </p:nvSpPr>
        <p:spPr>
          <a:xfrm>
            <a:off x="4317840" y="561348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Text Box 60"/>
          <p:cNvSpPr/>
          <p:nvPr/>
        </p:nvSpPr>
        <p:spPr>
          <a:xfrm>
            <a:off x="4789440" y="580860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Text Box 61"/>
          <p:cNvSpPr/>
          <p:nvPr/>
        </p:nvSpPr>
        <p:spPr>
          <a:xfrm>
            <a:off x="5479920" y="580392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Text Box 62"/>
          <p:cNvSpPr/>
          <p:nvPr/>
        </p:nvSpPr>
        <p:spPr>
          <a:xfrm>
            <a:off x="4572000" y="635652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Text Box 63"/>
          <p:cNvSpPr/>
          <p:nvPr/>
        </p:nvSpPr>
        <p:spPr>
          <a:xfrm>
            <a:off x="5232240" y="635652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following terms: true breeding, hybridization, monohybrid cross, P generation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between the following pairs of terms: dominant and recessive; heterozygous and homozygous; genotype and phen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unnett square to predict the results of a cross and to state the phenotypic and genotypic ratios of th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henotypic expression in the heterozygote differs with complete dominance, incomplete dominance, and codo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pleiotropy and epi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lethal dominant genes are much rarer than lethal recessiv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carrier recognition, fetal testing, and newborn screening can be used in genetic screening and 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02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Useful Genetic Vocabula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6000" y="1174680"/>
            <a:ext cx="89280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sm with </a:t>
            </a:r>
            <a:r>
              <a:rPr b="0" lang="en-US" sz="2400" spc="-1" strike="noStrike">
                <a:solidFill>
                  <a:srgbClr val="7575d1"/>
                </a:solidFill>
                <a:latin typeface="Arial"/>
              </a:rPr>
              <a:t>two identical alle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haracter is said to be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gene controlling that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homozygous recessive or homozygous domin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sm that has </a:t>
            </a:r>
            <a:r>
              <a:rPr b="0" lang="en-US" sz="2400" spc="-1" strike="noStrike">
                <a:solidFill>
                  <a:srgbClr val="7575d1"/>
                </a:solidFill>
                <a:latin typeface="Arial"/>
              </a:rPr>
              <a:t>two different alle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ene is said to be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heter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gene controlling that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homozygotes, heterozygotes are not true-breeding (can also be called carriers or hybr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of the different effects of dominant and recessive alleles, an organism’s traits do not always reveal its genetic 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fore, we distinguish between an organism’s </a:t>
            </a:r>
            <a:r>
              <a:rPr b="1" lang="en-US" sz="3000" spc="-1" strike="noStrike">
                <a:solidFill>
                  <a:srgbClr val="7575d1"/>
                </a:solidFill>
                <a:latin typeface="Arial"/>
              </a:rPr>
              <a:t>phenotype</a:t>
            </a:r>
            <a:r>
              <a:rPr b="0" lang="en-US" sz="3000" spc="-1" strike="noStrike">
                <a:solidFill>
                  <a:srgbClr val="7575d1"/>
                </a:solidFill>
                <a:latin typeface="Arial"/>
              </a:rPr>
              <a:t>, or physical appear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its </a:t>
            </a: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genotype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, or genetic make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xample of flower color in pea plant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s have the same phenotype (purple) but different geno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202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Useful Genetic Vocabula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2" descr="14_06PhenotypeVGenotype-U"/>
          <p:cNvPicPr/>
          <p:nvPr/>
        </p:nvPicPr>
        <p:blipFill>
          <a:blip r:embed="rId1"/>
          <a:stretch/>
        </p:blipFill>
        <p:spPr>
          <a:xfrm>
            <a:off x="865080" y="177840"/>
            <a:ext cx="7413840" cy="6578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6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1990800" y="222120"/>
            <a:ext cx="1395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2224080" y="1100160"/>
            <a:ext cx="77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2212920" y="2563920"/>
            <a:ext cx="77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893880" y="256068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2212920" y="3838680"/>
            <a:ext cx="77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Text Box 39"/>
          <p:cNvSpPr/>
          <p:nvPr/>
        </p:nvSpPr>
        <p:spPr>
          <a:xfrm>
            <a:off x="6041880" y="235080"/>
            <a:ext cx="1192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893880" y="540540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Text Box 41"/>
          <p:cNvSpPr/>
          <p:nvPr/>
        </p:nvSpPr>
        <p:spPr>
          <a:xfrm>
            <a:off x="2276640" y="5375160"/>
            <a:ext cx="680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Text Box 42"/>
          <p:cNvSpPr/>
          <p:nvPr/>
        </p:nvSpPr>
        <p:spPr>
          <a:xfrm>
            <a:off x="2098800" y="6353280"/>
            <a:ext cx="1023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atio 3: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1079640" y="558720"/>
            <a:ext cx="291960" cy="4191120"/>
          </a:xfrm>
          <a:custGeom>
            <a:avLst/>
            <a:gdLst>
              <a:gd name="textAreaLeft" fmla="*/ 186480 w 291960"/>
              <a:gd name="textAreaRight" fmla="*/ 292320 w 29196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AutoShape 44"/>
          <p:cNvSpPr/>
          <p:nvPr/>
        </p:nvSpPr>
        <p:spPr>
          <a:xfrm>
            <a:off x="1092240" y="4838760"/>
            <a:ext cx="216000" cy="1307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840 h 1307880"/>
              <a:gd name="textAreaBottom" fmla="*/ 1274040 h 130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Text Box 45"/>
          <p:cNvSpPr/>
          <p:nvPr/>
        </p:nvSpPr>
        <p:spPr>
          <a:xfrm>
            <a:off x="5805360" y="1303200"/>
            <a:ext cx="164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om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5805360" y="5532480"/>
            <a:ext cx="164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om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Text Box 47"/>
          <p:cNvSpPr/>
          <p:nvPr/>
        </p:nvSpPr>
        <p:spPr>
          <a:xfrm>
            <a:off x="5792760" y="2776680"/>
            <a:ext cx="1646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eter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Text Box 48"/>
          <p:cNvSpPr/>
          <p:nvPr/>
        </p:nvSpPr>
        <p:spPr>
          <a:xfrm>
            <a:off x="5780160" y="4046400"/>
            <a:ext cx="164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eter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Text Box 49"/>
          <p:cNvSpPr/>
          <p:nvPr/>
        </p:nvSpPr>
        <p:spPr>
          <a:xfrm>
            <a:off x="6440400" y="103680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6465960" y="250992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Text Box 51"/>
          <p:cNvSpPr/>
          <p:nvPr/>
        </p:nvSpPr>
        <p:spPr>
          <a:xfrm>
            <a:off x="6465960" y="378000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52"/>
          <p:cNvSpPr/>
          <p:nvPr/>
        </p:nvSpPr>
        <p:spPr>
          <a:xfrm>
            <a:off x="6478560" y="5265720"/>
            <a:ext cx="3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6022800" y="6378480"/>
            <a:ext cx="1239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atio 1:2: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Text Box 54"/>
          <p:cNvSpPr/>
          <p:nvPr/>
        </p:nvSpPr>
        <p:spPr>
          <a:xfrm>
            <a:off x="8120160" y="116352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Text Box 55"/>
          <p:cNvSpPr/>
          <p:nvPr/>
        </p:nvSpPr>
        <p:spPr>
          <a:xfrm>
            <a:off x="8120160" y="543096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Text Box 56"/>
          <p:cNvSpPr/>
          <p:nvPr/>
        </p:nvSpPr>
        <p:spPr>
          <a:xfrm>
            <a:off x="8107200" y="3284640"/>
            <a:ext cx="1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AutoShape 57"/>
          <p:cNvSpPr/>
          <p:nvPr/>
        </p:nvSpPr>
        <p:spPr>
          <a:xfrm>
            <a:off x="7899480" y="596880"/>
            <a:ext cx="190440" cy="1308240"/>
          </a:xfrm>
          <a:custGeom>
            <a:avLst/>
            <a:gdLst>
              <a:gd name="textAreaLeft" fmla="*/ 0 w 190440"/>
              <a:gd name="textAreaRight" fmla="*/ 68760 w 190440"/>
              <a:gd name="textAreaTop" fmla="*/ 33840 h 1308240"/>
              <a:gd name="textAreaBottom" fmla="*/ 127440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AutoShape 58"/>
          <p:cNvSpPr/>
          <p:nvPr/>
        </p:nvSpPr>
        <p:spPr>
          <a:xfrm>
            <a:off x="7861320" y="1968480"/>
            <a:ext cx="228600" cy="2819520"/>
          </a:xfrm>
          <a:custGeom>
            <a:avLst/>
            <a:gdLst>
              <a:gd name="textAreaLeft" fmla="*/ 0 w 228600"/>
              <a:gd name="textAreaRight" fmla="*/ 8244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AutoShape 59"/>
          <p:cNvSpPr/>
          <p:nvPr/>
        </p:nvSpPr>
        <p:spPr>
          <a:xfrm>
            <a:off x="7886880" y="4876920"/>
            <a:ext cx="190440" cy="1307880"/>
          </a:xfrm>
          <a:custGeom>
            <a:avLst/>
            <a:gdLst>
              <a:gd name="textAreaLeft" fmla="*/ 0 w 190440"/>
              <a:gd name="textAreaRight" fmla="*/ 68760 w 190440"/>
              <a:gd name="textAreaTop" fmla="*/ 33840 h 1307880"/>
              <a:gd name="textAreaBottom" fmla="*/ 1274040 h 13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916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Testcro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-360" y="1181160"/>
            <a:ext cx="91314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tell the genotype of an individual with the dominant phenoty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an individual must have one dominant allele, but the individual could be either homozygous dominant or heterozyg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swer is to carry out a </a:t>
            </a: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testcross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: breeding the</a:t>
            </a: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mystery individual with a homozygous recessive individ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ny offspring display the recessive phenotype, the mystery parent must be heterozyg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1" descr="14_07-Testcross-U"/>
          <p:cNvPicPr/>
          <p:nvPr/>
        </p:nvPicPr>
        <p:blipFill>
          <a:blip r:embed="rId1"/>
          <a:stretch/>
        </p:blipFill>
        <p:spPr>
          <a:xfrm>
            <a:off x="2178000" y="168120"/>
            <a:ext cx="4786200" cy="65977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2"/>
          <p:cNvSpPr/>
          <p:nvPr/>
        </p:nvSpPr>
        <p:spPr>
          <a:xfrm>
            <a:off x="2235240" y="5092560"/>
            <a:ext cx="1968480" cy="3366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2235240" y="209520"/>
            <a:ext cx="1962000" cy="3366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Rectangle 34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7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2357280" y="262080"/>
            <a:ext cx="1455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TECHNIQU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2351160" y="5157720"/>
            <a:ext cx="115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2871720" y="1398600"/>
            <a:ext cx="19573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ominant phenotype,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known genotype: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P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P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2300400" y="2319480"/>
            <a:ext cx="10681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4929120" y="1398600"/>
            <a:ext cx="1970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essive phenotype,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nown genotype: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4853160" y="992160"/>
            <a:ext cx="153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3652920" y="274464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5925960" y="274464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4808520" y="2859120"/>
            <a:ext cx="1922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3538440" y="3011400"/>
            <a:ext cx="585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5811840" y="3011400"/>
            <a:ext cx="585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3497400" y="3246480"/>
            <a:ext cx="102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4043520" y="3246480"/>
            <a:ext cx="102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5776920" y="324648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6338880" y="3252960"/>
            <a:ext cx="10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2884320" y="380520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2890800" y="438300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5181480" y="380520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5181480" y="440856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2414520" y="4078440"/>
            <a:ext cx="465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Text Box 55"/>
          <p:cNvSpPr/>
          <p:nvPr/>
        </p:nvSpPr>
        <p:spPr>
          <a:xfrm>
            <a:off x="4700520" y="4078440"/>
            <a:ext cx="465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Text Box 56"/>
          <p:cNvSpPr/>
          <p:nvPr/>
        </p:nvSpPr>
        <p:spPr>
          <a:xfrm>
            <a:off x="3386160" y="461160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Text Box 57"/>
          <p:cNvSpPr/>
          <p:nvPr/>
        </p:nvSpPr>
        <p:spPr>
          <a:xfrm>
            <a:off x="3430440" y="3989520"/>
            <a:ext cx="21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Text Box 58"/>
          <p:cNvSpPr/>
          <p:nvPr/>
        </p:nvSpPr>
        <p:spPr>
          <a:xfrm>
            <a:off x="4065480" y="397656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4065480" y="461808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5729400" y="398952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6357960" y="398304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Text Box 62"/>
          <p:cNvSpPr/>
          <p:nvPr/>
        </p:nvSpPr>
        <p:spPr>
          <a:xfrm>
            <a:off x="5697360" y="4611600"/>
            <a:ext cx="21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Text Box 63"/>
          <p:cNvSpPr/>
          <p:nvPr/>
        </p:nvSpPr>
        <p:spPr>
          <a:xfrm>
            <a:off x="6338880" y="460548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Text Box 64"/>
          <p:cNvSpPr/>
          <p:nvPr/>
        </p:nvSpPr>
        <p:spPr>
          <a:xfrm>
            <a:off x="4465800" y="5742000"/>
            <a:ext cx="191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Text Box 65"/>
          <p:cNvSpPr/>
          <p:nvPr/>
        </p:nvSpPr>
        <p:spPr>
          <a:xfrm>
            <a:off x="2452680" y="6066000"/>
            <a:ext cx="1779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offspring purple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4782960" y="6072120"/>
            <a:ext cx="2135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2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offspring purple and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2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offspring white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164960"/>
            <a:ext cx="87393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erived the law of segregation by following a single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fspring produced in this cross we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nohybri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ndividuals that are heterozygous for one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ross between such heterozygote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nohybrid 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05920" y="1174680"/>
            <a:ext cx="85345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identified his second law of inheritance by following two characters at the sam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ing two true-breeding parents differing in two characters produc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hybrid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ration, heterozygous for both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hybrid cross, a cross between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hybrids, can determine whether two characters are transmitted to offspring as a package or independ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13" descr="14_08-IndependentAssort-U"/>
          <p:cNvPicPr/>
          <p:nvPr/>
        </p:nvPicPr>
        <p:blipFill>
          <a:blip r:embed="rId1"/>
          <a:stretch/>
        </p:blipFill>
        <p:spPr>
          <a:xfrm>
            <a:off x="1681200" y="192240"/>
            <a:ext cx="5780160" cy="65847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14"/>
          <p:cNvSpPr/>
          <p:nvPr/>
        </p:nvSpPr>
        <p:spPr>
          <a:xfrm>
            <a:off x="1714680" y="5886360"/>
            <a:ext cx="1987200" cy="33012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Rectangle 115"/>
          <p:cNvSpPr/>
          <p:nvPr/>
        </p:nvSpPr>
        <p:spPr>
          <a:xfrm>
            <a:off x="1720800" y="203040"/>
            <a:ext cx="1974960" cy="34308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Rectangle 11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8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Text Box 117"/>
          <p:cNvSpPr/>
          <p:nvPr/>
        </p:nvSpPr>
        <p:spPr>
          <a:xfrm>
            <a:off x="1832040" y="257040"/>
            <a:ext cx="1481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1832040" y="5940360"/>
            <a:ext cx="1131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Text Box 119"/>
          <p:cNvSpPr/>
          <p:nvPr/>
        </p:nvSpPr>
        <p:spPr>
          <a:xfrm>
            <a:off x="1711440" y="714240"/>
            <a:ext cx="979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Text Box 120"/>
          <p:cNvSpPr/>
          <p:nvPr/>
        </p:nvSpPr>
        <p:spPr>
          <a:xfrm>
            <a:off x="1730520" y="1711440"/>
            <a:ext cx="10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Text Box 121"/>
          <p:cNvSpPr/>
          <p:nvPr/>
        </p:nvSpPr>
        <p:spPr>
          <a:xfrm>
            <a:off x="1711440" y="2390760"/>
            <a:ext cx="858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Text Box 122"/>
          <p:cNvSpPr/>
          <p:nvPr/>
        </p:nvSpPr>
        <p:spPr>
          <a:xfrm>
            <a:off x="3038400" y="1177920"/>
            <a:ext cx="5922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Text Box 123"/>
          <p:cNvSpPr/>
          <p:nvPr/>
        </p:nvSpPr>
        <p:spPr>
          <a:xfrm>
            <a:off x="2943360" y="2130480"/>
            <a:ext cx="960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esis of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Text Box 124"/>
          <p:cNvSpPr/>
          <p:nvPr/>
        </p:nvSpPr>
        <p:spPr>
          <a:xfrm>
            <a:off x="3247920" y="676440"/>
            <a:ext cx="37620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Text Box 125"/>
          <p:cNvSpPr/>
          <p:nvPr/>
        </p:nvSpPr>
        <p:spPr>
          <a:xfrm>
            <a:off x="4626000" y="67644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7" name="Text Box 126"/>
          <p:cNvSpPr/>
          <p:nvPr/>
        </p:nvSpPr>
        <p:spPr>
          <a:xfrm>
            <a:off x="3710160" y="1200240"/>
            <a:ext cx="20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Text Box 127"/>
          <p:cNvSpPr/>
          <p:nvPr/>
        </p:nvSpPr>
        <p:spPr>
          <a:xfrm>
            <a:off x="4429080" y="118116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Text Box 128"/>
          <p:cNvSpPr/>
          <p:nvPr/>
        </p:nvSpPr>
        <p:spPr>
          <a:xfrm>
            <a:off x="4359240" y="1838160"/>
            <a:ext cx="3128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Text Box 129"/>
          <p:cNvSpPr/>
          <p:nvPr/>
        </p:nvSpPr>
        <p:spPr>
          <a:xfrm>
            <a:off x="4118040" y="1203480"/>
            <a:ext cx="968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Text Box 130"/>
          <p:cNvSpPr/>
          <p:nvPr/>
        </p:nvSpPr>
        <p:spPr>
          <a:xfrm>
            <a:off x="4505400" y="2130480"/>
            <a:ext cx="1017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esis of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Text Box 131"/>
          <p:cNvSpPr/>
          <p:nvPr/>
        </p:nvSpPr>
        <p:spPr>
          <a:xfrm>
            <a:off x="4073400" y="2892600"/>
            <a:ext cx="17316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Text Box 132"/>
          <p:cNvSpPr/>
          <p:nvPr/>
        </p:nvSpPr>
        <p:spPr>
          <a:xfrm>
            <a:off x="1711440" y="2968560"/>
            <a:ext cx="1062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ed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spring of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Text Box 133"/>
          <p:cNvSpPr/>
          <p:nvPr/>
        </p:nvSpPr>
        <p:spPr>
          <a:xfrm>
            <a:off x="3292560" y="3171960"/>
            <a:ext cx="452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Text Box 134"/>
          <p:cNvSpPr/>
          <p:nvPr/>
        </p:nvSpPr>
        <p:spPr>
          <a:xfrm>
            <a:off x="5864400" y="2835360"/>
            <a:ext cx="452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Text Box 135"/>
          <p:cNvSpPr/>
          <p:nvPr/>
        </p:nvSpPr>
        <p:spPr>
          <a:xfrm>
            <a:off x="5241960" y="307656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Text Box 136"/>
          <p:cNvSpPr/>
          <p:nvPr/>
        </p:nvSpPr>
        <p:spPr>
          <a:xfrm>
            <a:off x="3184560" y="338148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Text Box 137"/>
          <p:cNvSpPr/>
          <p:nvPr/>
        </p:nvSpPr>
        <p:spPr>
          <a:xfrm>
            <a:off x="6799320" y="3070080"/>
            <a:ext cx="122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Text Box 138"/>
          <p:cNvSpPr/>
          <p:nvPr/>
        </p:nvSpPr>
        <p:spPr>
          <a:xfrm>
            <a:off x="3743280" y="338148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Text Box 139"/>
          <p:cNvSpPr/>
          <p:nvPr/>
        </p:nvSpPr>
        <p:spPr>
          <a:xfrm>
            <a:off x="5788080" y="3083040"/>
            <a:ext cx="122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Text Box 140"/>
          <p:cNvSpPr/>
          <p:nvPr/>
        </p:nvSpPr>
        <p:spPr>
          <a:xfrm>
            <a:off x="4734000" y="35463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Text Box 141"/>
          <p:cNvSpPr/>
          <p:nvPr/>
        </p:nvSpPr>
        <p:spPr>
          <a:xfrm>
            <a:off x="6283440" y="307656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Text Box 142"/>
          <p:cNvSpPr/>
          <p:nvPr/>
        </p:nvSpPr>
        <p:spPr>
          <a:xfrm>
            <a:off x="4746600" y="404820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Text Box 143"/>
          <p:cNvSpPr/>
          <p:nvPr/>
        </p:nvSpPr>
        <p:spPr>
          <a:xfrm>
            <a:off x="4753080" y="455616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Text Box 144"/>
          <p:cNvSpPr/>
          <p:nvPr/>
        </p:nvSpPr>
        <p:spPr>
          <a:xfrm>
            <a:off x="2724120" y="434808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Text Box 145"/>
          <p:cNvSpPr/>
          <p:nvPr/>
        </p:nvSpPr>
        <p:spPr>
          <a:xfrm>
            <a:off x="2689200" y="385128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Text Box 146"/>
          <p:cNvSpPr/>
          <p:nvPr/>
        </p:nvSpPr>
        <p:spPr>
          <a:xfrm>
            <a:off x="5108400" y="3686040"/>
            <a:ext cx="37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Text Box 147"/>
          <p:cNvSpPr/>
          <p:nvPr/>
        </p:nvSpPr>
        <p:spPr>
          <a:xfrm>
            <a:off x="3044880" y="399744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Text Box 148"/>
          <p:cNvSpPr/>
          <p:nvPr/>
        </p:nvSpPr>
        <p:spPr>
          <a:xfrm>
            <a:off x="3584520" y="399096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Text Box 149"/>
          <p:cNvSpPr/>
          <p:nvPr/>
        </p:nvSpPr>
        <p:spPr>
          <a:xfrm>
            <a:off x="3083040" y="4492800"/>
            <a:ext cx="3315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Text Box 150"/>
          <p:cNvSpPr/>
          <p:nvPr/>
        </p:nvSpPr>
        <p:spPr>
          <a:xfrm>
            <a:off x="6638760" y="369252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Text Box 151"/>
          <p:cNvSpPr/>
          <p:nvPr/>
        </p:nvSpPr>
        <p:spPr>
          <a:xfrm>
            <a:off x="6137280" y="41940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Text Box 152"/>
          <p:cNvSpPr/>
          <p:nvPr/>
        </p:nvSpPr>
        <p:spPr>
          <a:xfrm>
            <a:off x="5641920" y="468936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Text Box 153"/>
          <p:cNvSpPr/>
          <p:nvPr/>
        </p:nvSpPr>
        <p:spPr>
          <a:xfrm>
            <a:off x="5140440" y="5197320"/>
            <a:ext cx="331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Text Box 154"/>
          <p:cNvSpPr/>
          <p:nvPr/>
        </p:nvSpPr>
        <p:spPr>
          <a:xfrm>
            <a:off x="5622840" y="367992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Text Box 155"/>
          <p:cNvSpPr/>
          <p:nvPr/>
        </p:nvSpPr>
        <p:spPr>
          <a:xfrm>
            <a:off x="5127480" y="4181400"/>
            <a:ext cx="37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Text Box 156"/>
          <p:cNvSpPr/>
          <p:nvPr/>
        </p:nvSpPr>
        <p:spPr>
          <a:xfrm>
            <a:off x="6118200" y="3686040"/>
            <a:ext cx="37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Text Box 157"/>
          <p:cNvSpPr/>
          <p:nvPr/>
        </p:nvSpPr>
        <p:spPr>
          <a:xfrm>
            <a:off x="5114880" y="4689360"/>
            <a:ext cx="37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Text Box 158"/>
          <p:cNvSpPr/>
          <p:nvPr/>
        </p:nvSpPr>
        <p:spPr>
          <a:xfrm>
            <a:off x="5648400" y="4181400"/>
            <a:ext cx="3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Text Box 159"/>
          <p:cNvSpPr/>
          <p:nvPr/>
        </p:nvSpPr>
        <p:spPr>
          <a:xfrm>
            <a:off x="6657840" y="418788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Text Box 160"/>
          <p:cNvSpPr/>
          <p:nvPr/>
        </p:nvSpPr>
        <p:spPr>
          <a:xfrm>
            <a:off x="5661000" y="519120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Text Box 161"/>
          <p:cNvSpPr/>
          <p:nvPr/>
        </p:nvSpPr>
        <p:spPr>
          <a:xfrm>
            <a:off x="6130800" y="4689360"/>
            <a:ext cx="37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Text Box 162"/>
          <p:cNvSpPr/>
          <p:nvPr/>
        </p:nvSpPr>
        <p:spPr>
          <a:xfrm>
            <a:off x="6657840" y="469584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Text Box 163"/>
          <p:cNvSpPr/>
          <p:nvPr/>
        </p:nvSpPr>
        <p:spPr>
          <a:xfrm>
            <a:off x="6156360" y="519120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Text Box 164"/>
          <p:cNvSpPr/>
          <p:nvPr/>
        </p:nvSpPr>
        <p:spPr>
          <a:xfrm>
            <a:off x="6683400" y="5197320"/>
            <a:ext cx="2746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Text Box 165"/>
          <p:cNvSpPr/>
          <p:nvPr/>
        </p:nvSpPr>
        <p:spPr>
          <a:xfrm>
            <a:off x="3622680" y="4498920"/>
            <a:ext cx="2746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Text Box 166"/>
          <p:cNvSpPr/>
          <p:nvPr/>
        </p:nvSpPr>
        <p:spPr>
          <a:xfrm>
            <a:off x="2695680" y="5153040"/>
            <a:ext cx="1493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otypic ratio 3: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Text Box 167"/>
          <p:cNvSpPr/>
          <p:nvPr/>
        </p:nvSpPr>
        <p:spPr>
          <a:xfrm>
            <a:off x="2098800" y="4118040"/>
            <a:ext cx="338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Text Box 168"/>
          <p:cNvSpPr/>
          <p:nvPr/>
        </p:nvSpPr>
        <p:spPr>
          <a:xfrm>
            <a:off x="4175280" y="4270320"/>
            <a:ext cx="36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Text Box 169"/>
          <p:cNvSpPr/>
          <p:nvPr/>
        </p:nvSpPr>
        <p:spPr>
          <a:xfrm>
            <a:off x="5172120" y="5775480"/>
            <a:ext cx="1735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otypic ratio 9:3:3: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Text Box 170"/>
          <p:cNvSpPr/>
          <p:nvPr/>
        </p:nvSpPr>
        <p:spPr>
          <a:xfrm>
            <a:off x="2981160" y="3387600"/>
            <a:ext cx="147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Text Box 171"/>
          <p:cNvSpPr/>
          <p:nvPr/>
        </p:nvSpPr>
        <p:spPr>
          <a:xfrm>
            <a:off x="3502080" y="338760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Text Box 172"/>
          <p:cNvSpPr/>
          <p:nvPr/>
        </p:nvSpPr>
        <p:spPr>
          <a:xfrm>
            <a:off x="2479680" y="385128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Text Box 173"/>
          <p:cNvSpPr/>
          <p:nvPr/>
        </p:nvSpPr>
        <p:spPr>
          <a:xfrm>
            <a:off x="2479680" y="434664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Text Box 174"/>
          <p:cNvSpPr/>
          <p:nvPr/>
        </p:nvSpPr>
        <p:spPr>
          <a:xfrm>
            <a:off x="4518000" y="353520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Text Box 175"/>
          <p:cNvSpPr/>
          <p:nvPr/>
        </p:nvSpPr>
        <p:spPr>
          <a:xfrm>
            <a:off x="4761000" y="5045040"/>
            <a:ext cx="122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Text Box 176"/>
          <p:cNvSpPr/>
          <p:nvPr/>
        </p:nvSpPr>
        <p:spPr>
          <a:xfrm>
            <a:off x="5025960" y="3071880"/>
            <a:ext cx="166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Text Box 177"/>
          <p:cNvSpPr/>
          <p:nvPr/>
        </p:nvSpPr>
        <p:spPr>
          <a:xfrm>
            <a:off x="5553000" y="306540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Text Box 178"/>
          <p:cNvSpPr/>
          <p:nvPr/>
        </p:nvSpPr>
        <p:spPr>
          <a:xfrm>
            <a:off x="6054840" y="3059280"/>
            <a:ext cx="166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Text Box 179"/>
          <p:cNvSpPr/>
          <p:nvPr/>
        </p:nvSpPr>
        <p:spPr>
          <a:xfrm>
            <a:off x="6556320" y="306540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Text Box 180"/>
          <p:cNvSpPr/>
          <p:nvPr/>
        </p:nvSpPr>
        <p:spPr>
          <a:xfrm>
            <a:off x="4518000" y="403056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Text Box 181"/>
          <p:cNvSpPr/>
          <p:nvPr/>
        </p:nvSpPr>
        <p:spPr>
          <a:xfrm>
            <a:off x="4518000" y="4532400"/>
            <a:ext cx="166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Text Box 182"/>
          <p:cNvSpPr/>
          <p:nvPr/>
        </p:nvSpPr>
        <p:spPr>
          <a:xfrm>
            <a:off x="4518000" y="503388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Text Box 183"/>
          <p:cNvSpPr/>
          <p:nvPr/>
        </p:nvSpPr>
        <p:spPr>
          <a:xfrm>
            <a:off x="3463920" y="483696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Text Box 184"/>
          <p:cNvSpPr/>
          <p:nvPr/>
        </p:nvSpPr>
        <p:spPr>
          <a:xfrm>
            <a:off x="2936880" y="483696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Text Box 185"/>
          <p:cNvSpPr/>
          <p:nvPr/>
        </p:nvSpPr>
        <p:spPr>
          <a:xfrm>
            <a:off x="4657680" y="5505480"/>
            <a:ext cx="204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Text Box 186"/>
          <p:cNvSpPr/>
          <p:nvPr/>
        </p:nvSpPr>
        <p:spPr>
          <a:xfrm>
            <a:off x="5299200" y="5499000"/>
            <a:ext cx="204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8" name="Text Box 187"/>
          <p:cNvSpPr/>
          <p:nvPr/>
        </p:nvSpPr>
        <p:spPr>
          <a:xfrm>
            <a:off x="5959440" y="5505480"/>
            <a:ext cx="204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Text Box 188"/>
          <p:cNvSpPr/>
          <p:nvPr/>
        </p:nvSpPr>
        <p:spPr>
          <a:xfrm>
            <a:off x="6541920" y="5499000"/>
            <a:ext cx="204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Text Box 189"/>
          <p:cNvSpPr/>
          <p:nvPr/>
        </p:nvSpPr>
        <p:spPr>
          <a:xfrm>
            <a:off x="4600440" y="6378480"/>
            <a:ext cx="2795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otypic ratio approximately 9:3:3: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Text Box 190"/>
          <p:cNvSpPr/>
          <p:nvPr/>
        </p:nvSpPr>
        <p:spPr>
          <a:xfrm>
            <a:off x="1730520" y="6391440"/>
            <a:ext cx="2556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Text Box 191"/>
          <p:cNvSpPr/>
          <p:nvPr/>
        </p:nvSpPr>
        <p:spPr>
          <a:xfrm>
            <a:off x="2460600" y="6391440"/>
            <a:ext cx="2556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Text Box 192"/>
          <p:cNvSpPr/>
          <p:nvPr/>
        </p:nvSpPr>
        <p:spPr>
          <a:xfrm>
            <a:off x="3171960" y="6391440"/>
            <a:ext cx="2556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Text Box 193"/>
          <p:cNvSpPr/>
          <p:nvPr/>
        </p:nvSpPr>
        <p:spPr>
          <a:xfrm>
            <a:off x="3882960" y="6391440"/>
            <a:ext cx="173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96920" y="1198440"/>
            <a:ext cx="853416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a dihybrid cross, Mendel develop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aw of independent assortment states that each pair of alleles segregates independently of each other pair of alleles during gamete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ctly speaking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, this law applies only to genes on different, non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 located near each other on the same chromosome tend to be inherited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fine the following terms: true breeding, hybridization, monohybrid cross, P generation, 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eneration, 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inguish between the following pairs of terms: dominant and recessive; heterozygous and homozygous; genotype and phen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 a Punnett square to predict the results of a cross and to state the phenotypic and genotypic ratios of the 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henotypic expression in the heterozygote differs with complete dominance, incomplete dominance, and codo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pleiotropy and epi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lethal dominant genes are much rarer than lethal recessiv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carrier recognition, fetal testing, and newborn screening can be used in genetic screening and 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14_01Mendel-U"/>
          <p:cNvPicPr/>
          <p:nvPr/>
        </p:nvPicPr>
        <p:blipFill>
          <a:blip r:embed="rId1"/>
          <a:stretch/>
        </p:blipFill>
        <p:spPr>
          <a:xfrm>
            <a:off x="297000" y="271440"/>
            <a:ext cx="8548560" cy="638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14600" y="533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dvantages of pea plants for genetic stud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ny varie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istinct heritable features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flower color); character variants (such as purple or white flowers)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ing of plants can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rolled, and many offspring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a plant h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N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rm-producing organs (stamens) and egg-producing organs (carp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oss-poll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ertilization between different plants) can be achieved by dusting one plant with pollen from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 chose to track only those characters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ried in an either-or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lso used varieties that w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ue-bre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ants that produce offspring of the same variety when they self-poll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2" descr="14_02-CrossingPeaPlants-U"/>
          <p:cNvPicPr/>
          <p:nvPr/>
        </p:nvPicPr>
        <p:blipFill>
          <a:blip r:embed="rId1"/>
          <a:stretch/>
        </p:blipFill>
        <p:spPr>
          <a:xfrm>
            <a:off x="2614680" y="168120"/>
            <a:ext cx="3914640" cy="6597720"/>
          </a:xfrm>
          <a:prstGeom prst="rect">
            <a:avLst/>
          </a:prstGeom>
          <a:ln w="0">
            <a:noFill/>
          </a:ln>
        </p:spPr>
      </p:pic>
      <p:sp>
        <p:nvSpPr>
          <p:cNvPr id="143" name="Oval 23"/>
          <p:cNvSpPr/>
          <p:nvPr/>
        </p:nvSpPr>
        <p:spPr>
          <a:xfrm>
            <a:off x="5646600" y="5151600"/>
            <a:ext cx="158760" cy="15228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514840" y="401796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4740120" y="350352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5254560" y="192888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3968640" y="77004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2646360" y="4665600"/>
            <a:ext cx="1778040" cy="30024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Rectangle 29"/>
          <p:cNvSpPr/>
          <p:nvPr/>
        </p:nvSpPr>
        <p:spPr>
          <a:xfrm>
            <a:off x="2649600" y="210960"/>
            <a:ext cx="1778040" cy="30492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2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2747880" y="252360"/>
            <a:ext cx="1379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TECHNIQU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2749680" y="4687920"/>
            <a:ext cx="106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2735280" y="2475000"/>
            <a:ext cx="120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4805280" y="3059280"/>
            <a:ext cx="97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e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583160" y="3287880"/>
            <a:ext cx="770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pel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Line 36"/>
          <p:cNvSpPr/>
          <p:nvPr/>
        </p:nvSpPr>
        <p:spPr>
          <a:xfrm>
            <a:off x="4495680" y="2819520"/>
            <a:ext cx="152640" cy="44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 flipH="1">
            <a:off x="5441760" y="2841480"/>
            <a:ext cx="9828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4005360" y="795240"/>
            <a:ext cx="74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5294160" y="195120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776840" y="352908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5545080" y="403704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1920" y="5027760"/>
            <a:ext cx="979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-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5686560" y="517212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96560" y="1165320"/>
            <a:ext cx="8947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experiment, Mendel mated two contrasting, true-breeding varieties, a process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ybrid offspring of the P generation are calle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viduals self-pollinat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endel crossed contrasting, true-breeding white and purple flowered pea plants, all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s were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endel crossed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s, many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nts had purple flowers, but some ha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 discovered a ratio of about three to one, purple to white flowers, in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3-3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Picture 12" descr="14_03PurpleWhiteFlowers_3-U"/>
          <p:cNvPicPr/>
          <p:nvPr/>
        </p:nvPicPr>
        <p:blipFill>
          <a:blip r:embed="rId1"/>
          <a:stretch/>
        </p:blipFill>
        <p:spPr>
          <a:xfrm>
            <a:off x="1617840" y="130320"/>
            <a:ext cx="5908320" cy="6597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1727280" y="171360"/>
            <a:ext cx="1955880" cy="3366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833480" y="264960"/>
            <a:ext cx="15130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06400" y="785880"/>
            <a:ext cx="1557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rue-breedin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s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443480" y="1427040"/>
            <a:ext cx="826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611680" y="1427040"/>
            <a:ext cx="827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383080" y="792000"/>
            <a:ext cx="173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1630440" y="2957400"/>
            <a:ext cx="1557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ybrids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4659480" y="3433680"/>
            <a:ext cx="1690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lants ha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1604880" y="4836960"/>
            <a:ext cx="1608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065400" y="6062760"/>
            <a:ext cx="21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5 purple-flowere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83080" y="6056280"/>
            <a:ext cx="21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4 white-flowere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96560" y="1176480"/>
            <a:ext cx="8947080" cy="51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reasoned that only the purple flower factor was affecting flower color 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ybr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called the purple flower color a dominant trait and the white flower color a recessive tra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observed the same pattern of inheritance in six other pea plant characters, each represented by two tra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Mendel called a 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eritable fac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is what we now call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14_T01PeaPlantCharacters-U"/>
          <p:cNvPicPr/>
          <p:nvPr/>
        </p:nvPicPr>
        <p:blipFill>
          <a:blip r:embed="rId1"/>
          <a:stretch/>
        </p:blipFill>
        <p:spPr>
          <a:xfrm>
            <a:off x="2144880" y="174600"/>
            <a:ext cx="4852800" cy="65851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4-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gibsonbrownr</cp:lastModifiedBy>
  <cp:lastPrinted>2004-11-22T08:14:23Z</cp:lastPrinted>
  <dcterms:modified xsi:type="dcterms:W3CDTF">2010-11-15T22:04:43Z</dcterms:modified>
  <cp:revision>850</cp:revision>
  <dc:subject/>
  <dc:title>video slide</dc:title>
</cp:coreProperties>
</file>